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F2FD-807C-42B4-BB96-45CDC1FF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F534-6372-4D11-A4A1-2EF44F1C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EC3D-AE44-48CA-B1A7-782487E4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2FA2-F76C-40E8-B681-36E67D99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036F-933A-4008-A43D-E7AC7DB4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0871-19E3-4E5E-9E4C-CA47BFA9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BFE4-02FE-4897-A287-7D154A12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1780-6F1B-4A71-9F74-CA6E86D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5EBA-75D0-41C0-861A-765A8310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85CB-19B2-4B9B-82ED-E703179D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E35A-A2EA-48C0-8A9C-AC741B8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0999-A243-4F17-943D-F16327E5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E043-C583-486F-81C4-4BFD9321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6681-FD03-44F8-9E9F-A1F61F0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0FEC-99C6-422A-B12D-8A2B3B9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C7E-B4C8-497C-8AC6-1904BF81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5775-C0F4-4866-8ABA-B9EFFFE1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6656-A98E-49C7-807D-7C3AEB5C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99CF-10E2-446C-B94F-40BB5D65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BAC1-548B-4576-B18C-984AA5B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A53B-5F53-4861-A6AE-4FEC56E4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A877-F876-4477-950C-89E8AA9A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F756-63A1-49EB-AB73-85CF19B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548B-A653-4168-B06B-F2E3CCB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9DA4-072A-4CFB-98D3-6A95812010A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33EB-57B0-4FC6-ACB9-FEB18031150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-33120"/>
            <a:ext cx="1127916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39 </a:t>
            </a: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180</a:t>
            </a: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Господнята събота свята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настава отново за нас!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Днес нек всяка твар на земята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се радва на Бога в захлас!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И във тихия нежен ветрец,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и в бурята говори Той;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ах да можех </a:t>
            </a:r>
            <a:r>
              <a:rPr b="1" lang="be-BY" sz="3400" spc="-1" strike="noStrike">
                <a:solidFill>
                  <a:srgbClr val="ffffff"/>
                </a:solidFill>
                <a:latin typeface="Arial"/>
                <a:ea typeface="Arial"/>
              </a:rPr>
              <a:t>аз </a:t>
            </a: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проумя днес,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що казва ми с това Бог мой!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Напред или назад в живота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наказва, прощава - все Той!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Греша ли, със смърт ме заплашва,</a:t>
            </a:r>
            <a:br>
              <a:rPr sz="3400"/>
            </a:br>
            <a:r>
              <a:rPr b="1" lang="bg-BG" sz="3400" spc="-1" strike="noStrike">
                <a:solidFill>
                  <a:srgbClr val="ffffff"/>
                </a:solidFill>
                <a:latin typeface="Arial"/>
                <a:ea typeface="Arial"/>
              </a:rPr>
              <a:t>но пък и Спасител е мой!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0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 в тоз ден възпяв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елата на Бога пресвят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нес Господ Исус ми даряв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особената благодат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ад звезди, ветрове и бури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и, Боже, Си сам Господ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те заедно със морето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еб славят - свой Бог и свой Ц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емята, небето Ти пеят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ъв тоз ден, от Теб освет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ославя Те Твоето дело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що свършено бе в седмий ден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93480" y="-374760"/>
            <a:ext cx="80233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Щом земната мисия свърши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очина Си в събота Спас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 спасени знак вечен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аправена бе тя тогаз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днес ми обещава радост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блаженство Спасителят мой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кани ме в тоз ден на святост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 дойда във пълен покой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ъбира Той людете Свои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вой знак слага им на чело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небесен покой Той ги води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един дух и в едно тел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7-16T06:40:40Z</dcterms:modified>
  <cp:revision>26</cp:revision>
  <dc:subject/>
  <dc:title>Slide 1</dc:title>
</cp:coreProperties>
</file>